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Животные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Глаголы" id="1">
      <p:sldLst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BA2-D593-43C5-ABE6-608E18C3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E24-F72D-4336-9C38-7D7078BA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1D9-18FF-4BED-854D-A6ABD2F5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E7B-6CA5-4485-B61B-52CC1CAD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B7B-DBE4-4166-BF97-34082F7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532-3136-4C19-91F2-70ED6042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699-D5D3-4A01-AA4A-A82F3EF3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F15-5655-4503-B9CD-EF59595F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2BF-4C16-44EF-985F-233B062F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DB1-3507-49BF-B36B-4606B28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15F-FC9B-42AF-BE88-9B18F0D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03B-8DEE-433A-8E22-F993DA7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EF82-3FD0-4A20-AA43-F03A80FA7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6.png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1d700ca45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одержимое 2"/>
          <p:cNvSpPr/>
          <p:nvPr/>
        </p:nvSpPr>
        <p:spPr>
          <a:xfrm>
            <a:off x="533520" y="6165720"/>
            <a:ext cx="7097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Для продовження натисни на риб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2498760" y="822240"/>
            <a:ext cx="6566040" cy="1427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3962520" y="3141720"/>
            <a:ext cx="4421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конал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арева О.П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Вчитель англійської м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илипчанської ЗОШ І-ІІІ 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>
            <a:hlinkClick r:id="" action="ppaction://hlinkshowjump?jump=nextslide"/>
          </p:cNvPr>
          <p:cNvSpPr/>
          <p:nvPr/>
        </p:nvSpPr>
        <p:spPr>
          <a:xfrm>
            <a:off x="7524720" y="4869000"/>
            <a:ext cx="1440000" cy="187308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873080"/>
              <a:gd name="textAreaBottom" fmla="*/ 1779840 h 1873080"/>
            </a:gdLst>
            <a:ahLst/>
            <a:rect l="textAreaLeft" t="textAreaTop" r="textAreaRight" b="textAreaBottom"/>
            <a:pathLst>
              <a:path w="21600" h="28095">
                <a:moveTo>
                  <a:pt x="0" y="0"/>
                </a:moveTo>
                <a:lnTo>
                  <a:pt x="21600" y="0"/>
                </a:lnTo>
                <a:lnTo>
                  <a:pt x="21600" y="28095"/>
                </a:lnTo>
                <a:lnTo>
                  <a:pt x="0" y="28095"/>
                </a:lnTo>
                <a:close/>
              </a:path>
              <a:path fill="lightenLess" w="21600" h="28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95">
                <a:moveTo>
                  <a:pt x="21600" y="0"/>
                </a:moveTo>
                <a:lnTo>
                  <a:pt x="21600" y="28095"/>
                </a:lnTo>
                <a:lnTo>
                  <a:pt x="20200" y="26695"/>
                </a:lnTo>
                <a:lnTo>
                  <a:pt x="20200" y="1400"/>
                </a:lnTo>
                <a:close/>
              </a:path>
              <a:path fill="darkenLess" w="21600" h="28095">
                <a:moveTo>
                  <a:pt x="21600" y="28095"/>
                </a:moveTo>
                <a:lnTo>
                  <a:pt x="0" y="28095"/>
                </a:lnTo>
                <a:lnTo>
                  <a:pt x="1400" y="26695"/>
                </a:lnTo>
                <a:lnTo>
                  <a:pt x="20200" y="26695"/>
                </a:lnTo>
                <a:close/>
              </a:path>
              <a:path fill="lighten" w="21600" h="28095">
                <a:moveTo>
                  <a:pt x="0" y="28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9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sdd"/>
          <p:cNvPicPr/>
          <p:nvPr/>
        </p:nvPicPr>
        <p:blipFill>
          <a:blip r:embed="rId3"/>
          <a:stretch/>
        </p:blipFill>
        <p:spPr>
          <a:xfrm>
            <a:off x="7196040" y="4572000"/>
            <a:ext cx="1816200" cy="21034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4">
            <a:hlinkClick r:id="" action="ppaction://hlinkshowjump?jump=nextslide"/>
          </p:cNvPr>
          <p:cNvSpPr/>
          <p:nvPr/>
        </p:nvSpPr>
        <p:spPr>
          <a:xfrm>
            <a:off x="7162920" y="4572000"/>
            <a:ext cx="1981080" cy="2286000"/>
          </a:xfrm>
          <a:custGeom>
            <a:avLst/>
            <a:gdLst>
              <a:gd name="textAreaLeft" fmla="*/ 128160 w 1981080"/>
              <a:gd name="textAreaRight" fmla="*/ 1852920 w 1981080"/>
              <a:gd name="textAreaTop" fmla="*/ 128160 h 2286000"/>
              <a:gd name="textAreaBottom" fmla="*/ 2157840 h 2286000"/>
            </a:gdLst>
            <a:ahLst/>
            <a:rect l="textAreaLeft" t="textAreaTop" r="textAreaRight" b="textAreaBottom"/>
            <a:pathLst>
              <a:path w="21600" h="24924">
                <a:moveTo>
                  <a:pt x="0" y="0"/>
                </a:moveTo>
                <a:lnTo>
                  <a:pt x="21600" y="0"/>
                </a:lnTo>
                <a:lnTo>
                  <a:pt x="21600" y="24924"/>
                </a:lnTo>
                <a:lnTo>
                  <a:pt x="0" y="24924"/>
                </a:lnTo>
                <a:close/>
              </a:path>
              <a:path fill="lightenLess" w="21600" h="24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24">
                <a:moveTo>
                  <a:pt x="21600" y="0"/>
                </a:moveTo>
                <a:lnTo>
                  <a:pt x="21600" y="24924"/>
                </a:lnTo>
                <a:lnTo>
                  <a:pt x="20200" y="23524"/>
                </a:lnTo>
                <a:lnTo>
                  <a:pt x="20200" y="1400"/>
                </a:lnTo>
                <a:close/>
              </a:path>
              <a:path fill="darkenLess" w="21600" h="24924">
                <a:moveTo>
                  <a:pt x="21600" y="24924"/>
                </a:moveTo>
                <a:lnTo>
                  <a:pt x="0" y="24924"/>
                </a:lnTo>
                <a:lnTo>
                  <a:pt x="1400" y="23524"/>
                </a:lnTo>
                <a:lnTo>
                  <a:pt x="20200" y="23524"/>
                </a:lnTo>
                <a:close/>
              </a:path>
              <a:path fill="lighten" w="21600" h="24924">
                <a:moveTo>
                  <a:pt x="0" y="24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4"/>
          <a:stretch/>
        </p:blipFill>
        <p:spPr>
          <a:xfrm>
            <a:off x="0" y="1541520"/>
            <a:ext cx="3724200" cy="324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1b"/>
          <p:cNvPicPr/>
          <p:nvPr/>
        </p:nvPicPr>
        <p:blipFill>
          <a:blip r:embed="rId5"/>
          <a:stretch/>
        </p:blipFill>
        <p:spPr>
          <a:xfrm>
            <a:off x="2652840" y="3876840"/>
            <a:ext cx="799920" cy="12366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40" y="4767120"/>
            <a:ext cx="1962000" cy="615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2">
            <a:hlinkClick r:id="rId8"/>
          </p:cNvPr>
          <p:cNvSpPr/>
          <p:nvPr/>
        </p:nvSpPr>
        <p:spPr>
          <a:xfrm>
            <a:off x="1646280" y="5489640"/>
            <a:ext cx="183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"/>
          <p:cNvPicPr/>
          <p:nvPr/>
        </p:nvPicPr>
        <p:blipFill>
          <a:blip r:embed="rId1"/>
          <a:stretch/>
        </p:blipFill>
        <p:spPr>
          <a:xfrm>
            <a:off x="1828800" y="4762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12" name="Freeform 2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215" name="Group 5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216" name="Freeform 6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Freeform 10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1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222" name="Picture 12" descr="ЧИЧСИ"/>
            <p:cNvPicPr/>
            <p:nvPr/>
          </p:nvPicPr>
          <p:blipFill>
            <a:blip r:embed="rId3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13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14" descr="sdd"/>
          <p:cNvPicPr/>
          <p:nvPr/>
        </p:nvPicPr>
        <p:blipFill>
          <a:blip r:embed="rId4"/>
          <a:stretch/>
        </p:blipFill>
        <p:spPr>
          <a:xfrm flipH="1">
            <a:off x="2880" y="4114800"/>
            <a:ext cx="1803240" cy="20257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6"/>
          <p:cNvGrpSpPr/>
          <p:nvPr/>
        </p:nvGrpSpPr>
        <p:grpSpPr>
          <a:xfrm>
            <a:off x="3887640" y="4343400"/>
            <a:ext cx="4473720" cy="2178000"/>
            <a:chOff x="3887640" y="4343400"/>
            <a:chExt cx="4473720" cy="2178000"/>
          </a:xfrm>
        </p:grpSpPr>
        <p:pic>
          <p:nvPicPr>
            <p:cNvPr id="226" name="Picture 17" descr="sdd"/>
            <p:cNvPicPr/>
            <p:nvPr/>
          </p:nvPicPr>
          <p:blipFill>
            <a:blip r:embed="rId5"/>
            <a:stretch/>
          </p:blipFill>
          <p:spPr>
            <a:xfrm flipH="1">
              <a:off x="3887640" y="43434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Oval 18"/>
            <p:cNvSpPr/>
            <p:nvPr/>
          </p:nvSpPr>
          <p:spPr>
            <a:xfrm>
              <a:off x="5029200" y="5349600"/>
              <a:ext cx="3332160" cy="1067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"/>
                </a:rPr>
                <a:t>an elephant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Oval 19"/>
          <p:cNvSpPr/>
          <p:nvPr/>
        </p:nvSpPr>
        <p:spPr>
          <a:xfrm>
            <a:off x="1189080" y="5105520"/>
            <a:ext cx="284940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monke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0" descr="Рисунок1b"/>
          <p:cNvPicPr/>
          <p:nvPr/>
        </p:nvPicPr>
        <p:blipFill>
          <a:blip r:embed="rId6"/>
          <a:stretch/>
        </p:blipFill>
        <p:spPr>
          <a:xfrm>
            <a:off x="5719680" y="90504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1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C 0.02709 -0.08172 0.05417 -0.1632 0.09549 -0.24885 C 0.13698 -0.33449 0.1849 -0.45741 0.24914 -0.51412 C 0.31337 -0.57084 0.41806 -0.59676 0.48021 -0.58959 C 0.54254 -0.58241 0.59653 -0.52315 0.62396 -0.47107 C 0.65139 -0.41898 0.64202 -0.30949 0.64566 -0.27709 E">
                                      <p:cBhvr>
                                        <p:cTn id="142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61d700ca45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>
            <a:hlinkClick r:id="" action="ppaction://hlinkshowjump?jump=firstslide"/>
          </p:cNvPr>
          <p:cNvSpPr/>
          <p:nvPr/>
        </p:nvSpPr>
        <p:spPr>
          <a:xfrm>
            <a:off x="815328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514600" y="16002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i="1" lang="en-US" sz="9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en-US" sz="9600" spc="-1" strike="noStrike">
                <a:solidFill>
                  <a:srgbClr val="00b050"/>
                </a:solidFill>
                <a:latin typeface="Arial"/>
              </a:rPr>
              <a:t>l</a:t>
            </a:r>
            <a:r>
              <a:rPr b="1" i="1" lang="en-US" sz="9600" spc="-1" strike="noStrike">
                <a:solidFill>
                  <a:srgbClr val="3333ff"/>
                </a:solidFill>
                <a:latin typeface="Arial"/>
              </a:rPr>
              <a:t>l</a:t>
            </a:r>
            <a:r>
              <a:rPr b="1" i="1" lang="en-US" sz="9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96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1" i="1" lang="en-US" sz="96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1" i="1" lang="en-US" sz="9600" spc="-1" strike="noStrike">
                <a:solidFill>
                  <a:srgbClr val="ff9900"/>
                </a:solidFill>
                <a:latin typeface="Arial"/>
              </a:rPr>
              <a:t>n</a:t>
            </a:r>
            <a:r>
              <a:rPr b="1" i="1" lang="en-US" sz="9600" spc="-1" strike="noStrike">
                <a:solidFill>
                  <a:srgbClr val="ff33cc"/>
                </a:solidFill>
                <a:latin typeface="Arial"/>
              </a:rPr>
              <a:t>e</a:t>
            </a:r>
            <a:r>
              <a:rPr b="1" i="1" lang="ru-RU" sz="9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c05d1b22a159"/>
          <p:cNvPicPr/>
          <p:nvPr/>
        </p:nvPicPr>
        <p:blipFill>
          <a:blip r:embed="rId2"/>
          <a:stretch/>
        </p:blipFill>
        <p:spPr>
          <a:xfrm>
            <a:off x="5257800" y="3962520"/>
            <a:ext cx="2265480" cy="25970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" descr=""/>
          <p:cNvPicPr/>
          <p:nvPr/>
        </p:nvPicPr>
        <p:blipFill>
          <a:blip r:embed="rId3"/>
          <a:stretch/>
        </p:blipFill>
        <p:spPr>
          <a:xfrm>
            <a:off x="-19080" y="1981080"/>
            <a:ext cx="3448080" cy="3000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0" descr="Рисунок1b"/>
          <p:cNvPicPr/>
          <p:nvPr/>
        </p:nvPicPr>
        <p:blipFill>
          <a:blip r:embed="rId4"/>
          <a:stretch/>
        </p:blipFill>
        <p:spPr>
          <a:xfrm>
            <a:off x="1581120" y="3849840"/>
            <a:ext cx="800280" cy="123480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60" y="5029200"/>
            <a:ext cx="1963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905120" y="841320"/>
            <a:ext cx="3090600" cy="21430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4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4900680"/>
            <a:ext cx="9276840" cy="2066400"/>
            <a:chOff x="0" y="4900680"/>
            <a:chExt cx="9276840" cy="2066400"/>
          </a:xfrm>
        </p:grpSpPr>
        <p:grpSp>
          <p:nvGrpSpPr>
            <p:cNvPr id="56" name="Group 7"/>
            <p:cNvGrpSpPr/>
            <p:nvPr/>
          </p:nvGrpSpPr>
          <p:grpSpPr>
            <a:xfrm>
              <a:off x="59760" y="4900680"/>
              <a:ext cx="9217080" cy="195840"/>
              <a:chOff x="59760" y="4900680"/>
              <a:chExt cx="9217080" cy="195840"/>
            </a:xfrm>
          </p:grpSpPr>
          <p:sp>
            <p:nvSpPr>
              <p:cNvPr id="57" name="Freeform 8"/>
              <p:cNvSpPr/>
              <p:nvPr/>
            </p:nvSpPr>
            <p:spPr>
              <a:xfrm flipH="1" rot="27600">
                <a:off x="59760" y="491004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 flipH="1" rot="27600">
                <a:off x="2360520" y="492372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 flipH="1" rot="27600">
                <a:off x="4651560" y="493740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 rot="27600">
                <a:off x="6952320" y="495144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12"/>
            <p:cNvSpPr/>
            <p:nvPr/>
          </p:nvSpPr>
          <p:spPr>
            <a:xfrm>
              <a:off x="0" y="501768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5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63" name="Picture 16" descr="ЧИЧСИ"/>
            <p:cNvPicPr/>
            <p:nvPr/>
          </p:nvPicPr>
          <p:blipFill>
            <a:blip r:embed="rId3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Oval 17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2" descr="sdd"/>
          <p:cNvPicPr/>
          <p:nvPr/>
        </p:nvPicPr>
        <p:blipFill>
          <a:blip r:embed="rId4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32"/>
          <p:cNvGrpSpPr/>
          <p:nvPr/>
        </p:nvGrpSpPr>
        <p:grpSpPr>
          <a:xfrm>
            <a:off x="344520" y="3505320"/>
            <a:ext cx="3179880" cy="2178000"/>
            <a:chOff x="344520" y="3505320"/>
            <a:chExt cx="3179880" cy="2178000"/>
          </a:xfrm>
        </p:grpSpPr>
        <p:pic>
          <p:nvPicPr>
            <p:cNvPr id="67" name="Picture 14" descr="sdd"/>
            <p:cNvPicPr/>
            <p:nvPr/>
          </p:nvPicPr>
          <p:blipFill>
            <a:blip r:embed="rId5"/>
            <a:stretch/>
          </p:blipFill>
          <p:spPr>
            <a:xfrm flipH="1">
              <a:off x="344520" y="350532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Oval 29"/>
            <p:cNvSpPr/>
            <p:nvPr/>
          </p:nvSpPr>
          <p:spPr>
            <a:xfrm>
              <a:off x="1542960" y="4495680"/>
              <a:ext cx="1981440" cy="118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a ca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Oval 31"/>
          <p:cNvSpPr/>
          <p:nvPr/>
        </p:nvSpPr>
        <p:spPr>
          <a:xfrm>
            <a:off x="4191120" y="5334120"/>
            <a:ext cx="2133360" cy="11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d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Рисунок1b"/>
          <p:cNvPicPr/>
          <p:nvPr/>
        </p:nvPicPr>
        <p:blipFill>
          <a:blip r:embed="rId6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3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2133720" y="26208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73" name="Freeform 2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76" name="Group 5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77" name="Freeform 6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7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8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9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10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1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83" name="Picture 12" descr="ЧИЧСИ"/>
            <p:cNvPicPr/>
            <p:nvPr/>
          </p:nvPicPr>
          <p:blipFill>
            <a:blip r:embed="rId3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Oval 13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14" descr="sdd"/>
          <p:cNvPicPr/>
          <p:nvPr/>
        </p:nvPicPr>
        <p:blipFill>
          <a:blip r:embed="rId4"/>
          <a:stretch/>
        </p:blipFill>
        <p:spPr>
          <a:xfrm flipH="1">
            <a:off x="456840" y="3962520"/>
            <a:ext cx="1803240" cy="20253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6"/>
          <p:cNvGrpSpPr/>
          <p:nvPr/>
        </p:nvGrpSpPr>
        <p:grpSpPr>
          <a:xfrm>
            <a:off x="3733560" y="4343400"/>
            <a:ext cx="3504960" cy="2178000"/>
            <a:chOff x="3733560" y="4343400"/>
            <a:chExt cx="3504960" cy="2178000"/>
          </a:xfrm>
        </p:grpSpPr>
        <p:pic>
          <p:nvPicPr>
            <p:cNvPr id="87" name="Picture 17" descr="sdd"/>
            <p:cNvPicPr/>
            <p:nvPr/>
          </p:nvPicPr>
          <p:blipFill>
            <a:blip r:embed="rId5"/>
            <a:stretch/>
          </p:blipFill>
          <p:spPr>
            <a:xfrm flipH="1">
              <a:off x="3733560" y="4343400"/>
              <a:ext cx="18219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Oval 18"/>
            <p:cNvSpPr/>
            <p:nvPr/>
          </p:nvSpPr>
          <p:spPr>
            <a:xfrm>
              <a:off x="4814640" y="5349600"/>
              <a:ext cx="2423880" cy="117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a tige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Oval 19"/>
          <p:cNvSpPr/>
          <p:nvPr/>
        </p:nvSpPr>
        <p:spPr>
          <a:xfrm>
            <a:off x="1641600" y="4876920"/>
            <a:ext cx="1882800" cy="121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fo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0" descr="Рисунок1b"/>
          <p:cNvPicPr/>
          <p:nvPr/>
        </p:nvPicPr>
        <p:blipFill>
          <a:blip r:embed="rId6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1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C 0.02604 -0.08171 0.05208 -0.16319 0.09184 -0.24884 C 0.13177 -0.33449 0.17778 -0.4574 0.23958 -0.51412 C 0.30122 -0.57083 0.40191 -0.59676 0.46181 -0.58958 C 0.5217 -0.5824 0.57361 -0.52315 0.6 -0.47106 C 0.62639 -0.41898 0.61736 -0.30949 0.62083 -0.27708 E">
                                      <p:cBhvr>
                                        <p:cTn id="2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2198520" y="352440"/>
            <a:ext cx="2543400" cy="3143160"/>
          </a:xfrm>
          <a:prstGeom prst="rect">
            <a:avLst/>
          </a:prstGeom>
          <a:ln w="0">
            <a:noFill/>
          </a:ln>
        </p:spPr>
      </p:pic>
      <p:sp>
        <p:nvSpPr>
          <p:cNvPr id="93" name="Freeform 2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96" name="Group 5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97" name="Freeform 6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7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10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03" name="Picture 12" descr="ЧИЧСИ"/>
            <p:cNvPicPr/>
            <p:nvPr/>
          </p:nvPicPr>
          <p:blipFill>
            <a:blip r:embed="rId3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Oval 13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4" descr="sdd"/>
          <p:cNvPicPr/>
          <p:nvPr/>
        </p:nvPicPr>
        <p:blipFill>
          <a:blip r:embed="rId4"/>
          <a:stretch/>
        </p:blipFill>
        <p:spPr>
          <a:xfrm flipH="1">
            <a:off x="380880" y="4191120"/>
            <a:ext cx="1803600" cy="20253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6"/>
          <p:cNvGrpSpPr/>
          <p:nvPr/>
        </p:nvGrpSpPr>
        <p:grpSpPr>
          <a:xfrm>
            <a:off x="3886200" y="4343400"/>
            <a:ext cx="2819520" cy="2178000"/>
            <a:chOff x="3886200" y="4343400"/>
            <a:chExt cx="2819520" cy="2178000"/>
          </a:xfrm>
        </p:grpSpPr>
        <p:pic>
          <p:nvPicPr>
            <p:cNvPr id="107" name="Picture 17" descr="sdd"/>
            <p:cNvPicPr/>
            <p:nvPr/>
          </p:nvPicPr>
          <p:blipFill>
            <a:blip r:embed="rId5"/>
            <a:stretch/>
          </p:blipFill>
          <p:spPr>
            <a:xfrm flipH="1">
              <a:off x="3886200" y="43434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val 18"/>
            <p:cNvSpPr/>
            <p:nvPr/>
          </p:nvSpPr>
          <p:spPr>
            <a:xfrm>
              <a:off x="4686120" y="5410080"/>
              <a:ext cx="20196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a l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Oval 19"/>
          <p:cNvSpPr/>
          <p:nvPr/>
        </p:nvSpPr>
        <p:spPr>
          <a:xfrm>
            <a:off x="838080" y="5257800"/>
            <a:ext cx="3200400" cy="1143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n elephan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Рисунок1b"/>
          <p:cNvPicPr/>
          <p:nvPr/>
        </p:nvPicPr>
        <p:blipFill>
          <a:blip r:embed="rId6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1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6 C 0.02639 -0.08172 0.05278 -0.1632 0.09305 -0.24885 C 0.1335 -0.33449 0.18021 -0.45741 0.24271 -0.51412 C 0.30521 -0.57084 0.40729 -0.59676 0.46805 -0.58959 C 0.52864 -0.58241 0.58125 -0.52315 0.60798 -0.47107 C 0.63472 -0.41899 0.62552 -0.30949 0.62916 -0.27709 E">
                                      <p:cBhvr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2484360" y="12600"/>
            <a:ext cx="2202120" cy="3114720"/>
          </a:xfrm>
          <a:prstGeom prst="rect">
            <a:avLst/>
          </a:prstGeom>
          <a:ln w="0">
            <a:noFill/>
          </a:ln>
        </p:spPr>
      </p:pic>
      <p:sp>
        <p:nvSpPr>
          <p:cNvPr id="113" name="Freeform 2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16" name="Group 5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17" name="Freeform 6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8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9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10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1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23" name="Picture 12" descr="ЧИЧСИ"/>
            <p:cNvPicPr/>
            <p:nvPr/>
          </p:nvPicPr>
          <p:blipFill>
            <a:blip r:embed="rId3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3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14" descr="sdd"/>
          <p:cNvPicPr/>
          <p:nvPr/>
        </p:nvPicPr>
        <p:blipFill>
          <a:blip r:embed="rId4"/>
          <a:stretch/>
        </p:blipFill>
        <p:spPr>
          <a:xfrm flipH="1">
            <a:off x="3749400" y="4484520"/>
            <a:ext cx="1803240" cy="20257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6"/>
          <p:cNvGrpSpPr/>
          <p:nvPr/>
        </p:nvGrpSpPr>
        <p:grpSpPr>
          <a:xfrm>
            <a:off x="-76320" y="3460680"/>
            <a:ext cx="3770280" cy="2178000"/>
            <a:chOff x="-76320" y="3460680"/>
            <a:chExt cx="3770280" cy="2178000"/>
          </a:xfrm>
        </p:grpSpPr>
        <p:pic>
          <p:nvPicPr>
            <p:cNvPr id="127" name="Picture 17" descr="sdd"/>
            <p:cNvPicPr/>
            <p:nvPr/>
          </p:nvPicPr>
          <p:blipFill>
            <a:blip r:embed="rId5"/>
            <a:stretch/>
          </p:blipFill>
          <p:spPr>
            <a:xfrm flipH="1">
              <a:off x="-76320" y="346068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Oval 18"/>
            <p:cNvSpPr/>
            <p:nvPr/>
          </p:nvSpPr>
          <p:spPr>
            <a:xfrm>
              <a:off x="1179360" y="452736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"/>
                </a:rPr>
                <a:t>a monkey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9"/>
          <p:cNvSpPr/>
          <p:nvPr/>
        </p:nvSpPr>
        <p:spPr>
          <a:xfrm>
            <a:off x="4800600" y="5443560"/>
            <a:ext cx="286236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parr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Рисунок1b"/>
          <p:cNvPicPr/>
          <p:nvPr/>
        </p:nvPicPr>
        <p:blipFill>
          <a:blip r:embed="rId6"/>
          <a:stretch/>
        </p:blipFill>
        <p:spPr>
          <a:xfrm>
            <a:off x="654192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21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35" name="Group 5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36" name="Freeform 6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10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1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42" name="Picture 12" descr="ЧИЧСИ"/>
            <p:cNvPicPr/>
            <p:nvPr/>
          </p:nvPicPr>
          <p:blipFill>
            <a:blip r:embed="rId2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13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4" descr="sdd"/>
          <p:cNvPicPr/>
          <p:nvPr/>
        </p:nvPicPr>
        <p:blipFill>
          <a:blip r:embed="rId3"/>
          <a:stretch/>
        </p:blipFill>
        <p:spPr>
          <a:xfrm flipH="1">
            <a:off x="2971440" y="4495680"/>
            <a:ext cx="1803240" cy="20257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6"/>
          <p:cNvGrpSpPr/>
          <p:nvPr/>
        </p:nvGrpSpPr>
        <p:grpSpPr>
          <a:xfrm>
            <a:off x="-46080" y="3460680"/>
            <a:ext cx="3035160" cy="2178000"/>
            <a:chOff x="-46080" y="3460680"/>
            <a:chExt cx="3035160" cy="2178000"/>
          </a:xfrm>
        </p:grpSpPr>
        <p:pic>
          <p:nvPicPr>
            <p:cNvPr id="146" name="Picture 17" descr="sdd"/>
            <p:cNvPicPr/>
            <p:nvPr/>
          </p:nvPicPr>
          <p:blipFill>
            <a:blip r:embed="rId4"/>
            <a:stretch/>
          </p:blipFill>
          <p:spPr>
            <a:xfrm flipH="1">
              <a:off x="-46080" y="346068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18"/>
            <p:cNvSpPr/>
            <p:nvPr/>
          </p:nvSpPr>
          <p:spPr>
            <a:xfrm>
              <a:off x="1087200" y="4514760"/>
              <a:ext cx="190188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a l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Oval 19"/>
          <p:cNvSpPr/>
          <p:nvPr/>
        </p:nvSpPr>
        <p:spPr>
          <a:xfrm>
            <a:off x="4191120" y="5403960"/>
            <a:ext cx="190476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0" descr="Рисунок1b"/>
          <p:cNvPicPr/>
          <p:nvPr/>
        </p:nvPicPr>
        <p:blipFill>
          <a:blip r:embed="rId5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1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6"/>
          <a:stretch/>
        </p:blipFill>
        <p:spPr>
          <a:xfrm>
            <a:off x="2038320" y="189000"/>
            <a:ext cx="24145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7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"/>
          <p:cNvPicPr/>
          <p:nvPr/>
        </p:nvPicPr>
        <p:blipFill>
          <a:blip r:embed="rId1"/>
          <a:stretch/>
        </p:blipFill>
        <p:spPr>
          <a:xfrm>
            <a:off x="1889280" y="838080"/>
            <a:ext cx="2857320" cy="2390760"/>
          </a:xfrm>
          <a:prstGeom prst="rect">
            <a:avLst/>
          </a:prstGeom>
          <a:ln w="0">
            <a:noFill/>
          </a:ln>
        </p:spPr>
      </p:pic>
      <p:sp>
        <p:nvSpPr>
          <p:cNvPr id="153" name="Freeform 2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56" name="Group 5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57" name="Freeform 6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Freeform 10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1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63" name="Picture 12" descr="ЧИЧСИ"/>
            <p:cNvPicPr/>
            <p:nvPr/>
          </p:nvPicPr>
          <p:blipFill>
            <a:blip r:embed="rId3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Oval 13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14" descr="sdd"/>
          <p:cNvPicPr/>
          <p:nvPr/>
        </p:nvPicPr>
        <p:blipFill>
          <a:blip r:embed="rId4"/>
          <a:stretch/>
        </p:blipFill>
        <p:spPr>
          <a:xfrm flipH="1">
            <a:off x="304560" y="4267080"/>
            <a:ext cx="1803240" cy="202572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6"/>
          <p:cNvGrpSpPr/>
          <p:nvPr/>
        </p:nvGrpSpPr>
        <p:grpSpPr>
          <a:xfrm>
            <a:off x="3276720" y="4114800"/>
            <a:ext cx="3581280" cy="2178000"/>
            <a:chOff x="3276720" y="4114800"/>
            <a:chExt cx="3581280" cy="2178000"/>
          </a:xfrm>
        </p:grpSpPr>
        <p:pic>
          <p:nvPicPr>
            <p:cNvPr id="167" name="Picture 17" descr="sdd"/>
            <p:cNvPicPr/>
            <p:nvPr/>
          </p:nvPicPr>
          <p:blipFill>
            <a:blip r:embed="rId5"/>
            <a:stretch/>
          </p:blipFill>
          <p:spPr>
            <a:xfrm flipH="1">
              <a:off x="3276720" y="41148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Oval 18"/>
            <p:cNvSpPr/>
            <p:nvPr/>
          </p:nvSpPr>
          <p:spPr>
            <a:xfrm>
              <a:off x="3962520" y="5181480"/>
              <a:ext cx="289548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"/>
                </a:rPr>
                <a:t>a monkey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Oval 19"/>
          <p:cNvSpPr/>
          <p:nvPr/>
        </p:nvSpPr>
        <p:spPr>
          <a:xfrm>
            <a:off x="1535040" y="5280120"/>
            <a:ext cx="165276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c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0" descr="Рисунок1b"/>
          <p:cNvPicPr/>
          <p:nvPr/>
        </p:nvPicPr>
        <p:blipFill>
          <a:blip r:embed="rId6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21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C 0.02709 -0.08172 0.05417 -0.1632 0.09549 -0.24885 C 0.13698 -0.33449 0.1849 -0.45741 0.24914 -0.51412 C 0.31337 -0.57084 0.41806 -0.59676 0.48021 -0.58959 C 0.54254 -0.58241 0.59653 -0.52315 0.62396 -0.47107 C 0.65139 -0.41898 0.64202 -0.30949 0.64566 -0.27709 E">
                                      <p:cBhvr>
                                        <p:cTn id="9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2147760" y="476280"/>
            <a:ext cx="2295720" cy="285732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2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468360" y="476280"/>
            <a:ext cx="504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76" name="Group 5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77" name="Freeform 6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9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10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183" name="Picture 12" descr="ЧИЧСИ"/>
            <p:cNvPicPr/>
            <p:nvPr/>
          </p:nvPicPr>
          <p:blipFill>
            <a:blip r:embed="rId3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Oval 13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14" descr="sdd"/>
          <p:cNvPicPr/>
          <p:nvPr/>
        </p:nvPicPr>
        <p:blipFill>
          <a:blip r:embed="rId4"/>
          <a:stretch/>
        </p:blipFill>
        <p:spPr>
          <a:xfrm flipH="1">
            <a:off x="380880" y="4038480"/>
            <a:ext cx="1803600" cy="20257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6"/>
          <p:cNvGrpSpPr/>
          <p:nvPr/>
        </p:nvGrpSpPr>
        <p:grpSpPr>
          <a:xfrm>
            <a:off x="3581280" y="4343400"/>
            <a:ext cx="4800600" cy="2178000"/>
            <a:chOff x="3581280" y="4343400"/>
            <a:chExt cx="4800600" cy="2178000"/>
          </a:xfrm>
        </p:grpSpPr>
        <p:pic>
          <p:nvPicPr>
            <p:cNvPr id="187" name="Picture 17" descr="sdd"/>
            <p:cNvPicPr/>
            <p:nvPr/>
          </p:nvPicPr>
          <p:blipFill>
            <a:blip r:embed="rId5"/>
            <a:stretch/>
          </p:blipFill>
          <p:spPr>
            <a:xfrm flipH="1">
              <a:off x="3581280" y="4343400"/>
              <a:ext cx="18223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Oval 18"/>
            <p:cNvSpPr/>
            <p:nvPr/>
          </p:nvSpPr>
          <p:spPr>
            <a:xfrm>
              <a:off x="4343400" y="5410080"/>
              <a:ext cx="403848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a cockere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19"/>
          <p:cNvSpPr/>
          <p:nvPr/>
        </p:nvSpPr>
        <p:spPr>
          <a:xfrm>
            <a:off x="1371600" y="5181480"/>
            <a:ext cx="243828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tig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0" descr="Рисунок1b"/>
          <p:cNvPicPr/>
          <p:nvPr/>
        </p:nvPicPr>
        <p:blipFill>
          <a:blip r:embed="rId6"/>
          <a:stretch/>
        </p:blipFill>
        <p:spPr>
          <a:xfrm>
            <a:off x="5867280" y="83808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21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C 0.02586 -0.08171 0.05191 -0.16319 0.09166 -0.24884 C 0.13142 -0.33449 0.17743 -0.4574 0.23906 -0.51412 C 0.30052 -0.57083 0.40104 -0.59676 0.46076 -0.58958 C 0.52066 -0.5824 0.57222 -0.52314 0.59861 -0.47106 C 0.625 -0.41898 0.61597 -0.30949 0.61961 -0.27708 E">
                                      <p:cBhvr>
                                        <p:cTn id="10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2" descr=""/>
          <p:cNvPicPr/>
          <p:nvPr/>
        </p:nvPicPr>
        <p:blipFill>
          <a:blip r:embed="rId1"/>
          <a:stretch/>
        </p:blipFill>
        <p:spPr>
          <a:xfrm>
            <a:off x="2360520" y="189000"/>
            <a:ext cx="2156040" cy="278280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2"/>
          <p:cNvSpPr/>
          <p:nvPr/>
        </p:nvSpPr>
        <p:spPr>
          <a:xfrm>
            <a:off x="2438280" y="2590920"/>
            <a:ext cx="8077320" cy="322560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3225600"/>
              <a:gd name="textAreaBottom" fmla="*/ 3225960 h 3225600"/>
            </a:gdLst>
            <a:ahLst/>
            <a:rect l="textAreaLeft" t="textAreaTop" r="textAreaRight" b="textAreaBottom"/>
            <a:pathLst>
              <a:path w="3168" h="1392">
                <a:moveTo>
                  <a:pt x="2696" y="160"/>
                </a:moveTo>
                <a:cubicBezTo>
                  <a:pt x="2552" y="0"/>
                  <a:pt x="2208" y="184"/>
                  <a:pt x="1928" y="256"/>
                </a:cubicBezTo>
                <a:cubicBezTo>
                  <a:pt x="1648" y="328"/>
                  <a:pt x="1312" y="432"/>
                  <a:pt x="1016" y="592"/>
                </a:cubicBezTo>
                <a:cubicBezTo>
                  <a:pt x="720" y="752"/>
                  <a:pt x="248" y="1112"/>
                  <a:pt x="152" y="1216"/>
                </a:cubicBezTo>
                <a:cubicBezTo>
                  <a:pt x="56" y="1320"/>
                  <a:pt x="0" y="1216"/>
                  <a:pt x="440" y="1216"/>
                </a:cubicBezTo>
                <a:cubicBezTo>
                  <a:pt x="880" y="1216"/>
                  <a:pt x="2416" y="1392"/>
                  <a:pt x="2792" y="1216"/>
                </a:cubicBezTo>
                <a:cubicBezTo>
                  <a:pt x="3168" y="1040"/>
                  <a:pt x="2840" y="320"/>
                  <a:pt x="2696" y="16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0" y="4791240"/>
            <a:ext cx="9276840" cy="2066400"/>
            <a:chOff x="0" y="4791240"/>
            <a:chExt cx="9276840" cy="2066400"/>
          </a:xfrm>
        </p:grpSpPr>
        <p:grpSp>
          <p:nvGrpSpPr>
            <p:cNvPr id="195" name="Group 5"/>
            <p:cNvGrpSpPr/>
            <p:nvPr/>
          </p:nvGrpSpPr>
          <p:grpSpPr>
            <a:xfrm>
              <a:off x="59760" y="4791240"/>
              <a:ext cx="9217080" cy="195840"/>
              <a:chOff x="59760" y="4791240"/>
              <a:chExt cx="9217080" cy="195840"/>
            </a:xfrm>
          </p:grpSpPr>
          <p:sp>
            <p:nvSpPr>
              <p:cNvPr id="196" name="Freeform 6"/>
              <p:cNvSpPr/>
              <p:nvPr/>
            </p:nvSpPr>
            <p:spPr>
              <a:xfrm flipH="1" rot="27600">
                <a:off x="59760" y="48006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 flipH="1" rot="27600">
                <a:off x="2360520" y="481428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 flipH="1" rot="27600">
                <a:off x="4651560" y="4827960"/>
                <a:ext cx="2323800" cy="135720"/>
              </a:xfrm>
              <a:custGeom>
                <a:avLst/>
                <a:gdLst>
                  <a:gd name="textAreaLeft" fmla="*/ -360 w 2323800"/>
                  <a:gd name="textAreaRight" fmla="*/ 2323800 w 232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 flipH="1" rot="27600">
                <a:off x="6952320" y="4842000"/>
                <a:ext cx="2323440" cy="135720"/>
              </a:xfrm>
              <a:custGeom>
                <a:avLst/>
                <a:gdLst>
                  <a:gd name="textAreaLeft" fmla="*/ 360 w 2323440"/>
                  <a:gd name="textAreaRight" fmla="*/ 2324160 w 23234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0"/>
            <p:cNvSpPr/>
            <p:nvPr/>
          </p:nvSpPr>
          <p:spPr>
            <a:xfrm>
              <a:off x="0" y="4908240"/>
              <a:ext cx="9275040" cy="1949400"/>
            </a:xfrm>
            <a:custGeom>
              <a:avLst/>
              <a:gdLst>
                <a:gd name="textAreaLeft" fmla="*/ 0 w 9275040"/>
                <a:gd name="textAreaRight" fmla="*/ 9275400 w 9275040"/>
                <a:gd name="textAreaTop" fmla="*/ 0 h 1949400"/>
                <a:gd name="textAreaBottom" fmla="*/ 1949760 h 1949400"/>
              </a:gdLst>
              <a:ahLst/>
              <a:rect l="textAreaLeft" t="textAreaTop" r="textAreaRight" b="textAreaBottom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50000">
                  <a:srgbClr val="6666ff"/>
                </a:gs>
                <a:gs pos="100000">
                  <a:srgbClr val="33cc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76320" y="0"/>
            <a:ext cx="1565280" cy="1785960"/>
            <a:chOff x="76320" y="0"/>
            <a:chExt cx="1565280" cy="1785960"/>
          </a:xfrm>
        </p:grpSpPr>
        <p:pic>
          <p:nvPicPr>
            <p:cNvPr id="202" name="Picture 12" descr="ЧИЧСИ"/>
            <p:cNvPicPr/>
            <p:nvPr/>
          </p:nvPicPr>
          <p:blipFill>
            <a:blip r:embed="rId3"/>
            <a:stretch/>
          </p:blipFill>
          <p:spPr>
            <a:xfrm>
              <a:off x="292320" y="189000"/>
              <a:ext cx="13492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13"/>
            <p:cNvSpPr/>
            <p:nvPr/>
          </p:nvSpPr>
          <p:spPr>
            <a:xfrm>
              <a:off x="76320" y="0"/>
              <a:ext cx="647640" cy="476280"/>
            </a:xfrm>
            <a:prstGeom prst="ellipse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14" descr="sdd"/>
          <p:cNvPicPr/>
          <p:nvPr/>
        </p:nvPicPr>
        <p:blipFill>
          <a:blip r:embed="rId4"/>
          <a:stretch/>
        </p:blipFill>
        <p:spPr>
          <a:xfrm flipH="1">
            <a:off x="3709800" y="4411800"/>
            <a:ext cx="1803240" cy="202536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6"/>
          <p:cNvGrpSpPr/>
          <p:nvPr/>
        </p:nvGrpSpPr>
        <p:grpSpPr>
          <a:xfrm>
            <a:off x="-360" y="3505320"/>
            <a:ext cx="3809880" cy="2178000"/>
            <a:chOff x="-360" y="3505320"/>
            <a:chExt cx="3809880" cy="2178000"/>
          </a:xfrm>
        </p:grpSpPr>
        <p:pic>
          <p:nvPicPr>
            <p:cNvPr id="206" name="Picture 17" descr="sdd"/>
            <p:cNvPicPr/>
            <p:nvPr/>
          </p:nvPicPr>
          <p:blipFill>
            <a:blip r:embed="rId5"/>
            <a:stretch/>
          </p:blipFill>
          <p:spPr>
            <a:xfrm flipH="1">
              <a:off x="-360" y="3505320"/>
              <a:ext cx="171900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Oval 18"/>
            <p:cNvSpPr/>
            <p:nvPr/>
          </p:nvSpPr>
          <p:spPr>
            <a:xfrm>
              <a:off x="1078200" y="4572000"/>
              <a:ext cx="2731320" cy="10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a parro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Oval 19"/>
          <p:cNvSpPr/>
          <p:nvPr/>
        </p:nvSpPr>
        <p:spPr>
          <a:xfrm>
            <a:off x="4819680" y="5424480"/>
            <a:ext cx="213372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 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0" descr="Рисунок1b"/>
          <p:cNvPicPr/>
          <p:nvPr/>
        </p:nvPicPr>
        <p:blipFill>
          <a:blip r:embed="rId6"/>
          <a:stretch/>
        </p:blipFill>
        <p:spPr>
          <a:xfrm>
            <a:off x="6616800" y="87156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1">
            <a:hlinkClick r:id="" action="ppaction://hlinkshowjump?jump=nextslide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C 0.01511 -0.08172 0.03021 -0.1632 0.0533 -0.24884 C 0.0764 -0.33449 0.10313 -0.45741 0.1389 -0.51412 C 0.17466 -0.57084 0.23299 -0.59676 0.26771 -0.58959 C 0.30244 -0.58241 0.33247 -0.52315 0.34775 -0.47107 C 0.36303 -0.41898 0.35782 -0.30949 0.3599 -0.27709 E">
                                      <p:cBhvr>
                                        <p:cTn id="12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3-12-02T18:36:39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